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DBE-5627-4685-85B2-F903C0C3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49C-8758-4D27-9FCD-13CDFDAA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741-F9D4-467F-9B8A-D4AB8025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92B-8F00-45B0-945A-469A4C55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661-B87D-4753-A05E-6DA7CD77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8D1-24D4-4AFC-8B56-464449B7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51B-2558-4B6A-8CC6-6089221C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158-DAC1-4C2E-8546-E7D01C62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B6B-64DF-4F5A-B50F-7C2E67A8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34A-14AF-4392-8EFB-89CAFA80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8B4-B854-4DE4-BE95-4AE2EAEE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86B-1AED-46CB-AD0A-AF6B82D9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55EF-819C-438C-9F95-1D4E27953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716280"/>
            <a:ext cx="6407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Bodoni MT"/>
              </a:rPr>
              <a:t>Españ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7654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Familia R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02280" y="3357720"/>
            <a:ext cx="4546440" cy="2727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67120" y="324000"/>
            <a:ext cx="3981600" cy="288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4913" t="0" r="6541" b="0"/>
          <a:stretch/>
        </p:blipFill>
        <p:spPr>
          <a:xfrm>
            <a:off x="324000" y="2060640"/>
            <a:ext cx="37447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3640" cy="5467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03280" y="2060640"/>
            <a:ext cx="503280" cy="1224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47530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tiemp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03640" y="3500280"/>
            <a:ext cx="3619800" cy="2959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84720" y="549360"/>
            <a:ext cx="22482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Los monu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341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134136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ára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89440" cy="196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La Mezquita de Córdoba"/>
          <p:cNvPicPr/>
          <p:nvPr/>
        </p:nvPicPr>
        <p:blipFill>
          <a:blip r:embed="rId2"/>
          <a:stretch/>
        </p:blipFill>
        <p:spPr>
          <a:xfrm>
            <a:off x="5435640" y="1916280"/>
            <a:ext cx="2962080" cy="2222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393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arta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623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Co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2952720" cy="1968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ita Aug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38876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fút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022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La vida en el cam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375000" cy="225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460680" cy="2593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168720" cy="191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280980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132000" y="4724280"/>
            <a:ext cx="244800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mapa de Esp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40872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paisaj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960720" cy="2973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232000" cy="159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24000" y="3213000"/>
            <a:ext cx="4392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392720" cy="1050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03280" y="1692360"/>
            <a:ext cx="2305080" cy="2023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32360" y="963720"/>
            <a:ext cx="3641760" cy="273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11280" y="3917880"/>
            <a:ext cx="79930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MT"/>
              </a:rPr>
              <a:t>La comi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tort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chori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jam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pan 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pa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vino t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ver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227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80000" y="4724280"/>
            <a:ext cx="2438280" cy="162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588000" y="4149720"/>
            <a:ext cx="2376720" cy="2548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0" t="0" r="2556" b="0"/>
          <a:stretch/>
        </p:blipFill>
        <p:spPr>
          <a:xfrm>
            <a:off x="3924360" y="1557360"/>
            <a:ext cx="1784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73440" cy="292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987640" y="2276640"/>
            <a:ext cx="2695680" cy="202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0360" y="0"/>
            <a:ext cx="2376360" cy="2368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40360" y="1413000"/>
            <a:ext cx="2741760" cy="220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24000" y="4005360"/>
            <a:ext cx="39924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Fi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s Sanferminas (Pamplo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745080" cy="2865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46440" y="2708280"/>
            <a:ext cx="405792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809880" cy="420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4356360" cy="32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619280" y="765000"/>
            <a:ext cx="50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s Fallas (Valenc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229200" cy="1954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3716280"/>
            <a:ext cx="5003640" cy="2793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084720" y="404640"/>
            <a:ext cx="2853000" cy="300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95280" y="3392640"/>
            <a:ext cx="2736720" cy="2625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360" y="256536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Fiesta de Abril (Sevil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6:55:46Z</dcterms:created>
  <dc:creator>g.09.wipfler.elena</dc:creator>
  <dc:description/>
  <dc:language>en-US</dc:language>
  <cp:lastModifiedBy>g.09.wipfler.elena</cp:lastModifiedBy>
  <dcterms:modified xsi:type="dcterms:W3CDTF">2010-07-27T06:41:45Z</dcterms:modified>
  <cp:revision>5</cp:revision>
  <dc:subject/>
  <dc:title>España</dc:title>
</cp:coreProperties>
</file>